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900-970B-4DFC-9787-2D1929D0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208-44F6-4159-B1B3-A66B968A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9E5DA-B3FE-4722-807E-73A97F56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7F6CC-96FA-4A54-B592-B1B6980C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EE86E-040B-4A24-93B0-81A4663A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77593-F82D-4354-94A5-9E45675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3E4F2-EEC6-4B22-9398-54486BD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63ADF-A87E-4865-8F3A-6D3643E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96834-E6C7-44F1-9F36-DD23BE48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E9A86-3E92-49E7-BA7C-423B1EA5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AF050-98BC-4DA2-9C59-EC669100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0F166-5B3D-4914-8D03-993172DE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60A-8139-4B95-A476-314BABB8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5CBA3-FC21-4FAA-A8A9-13A8A729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811CA-8F5C-4DC4-BAC5-F7E466A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AF10D-9D82-4BF5-848A-0372880C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98736-6098-40A9-B5F6-46B16C9E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D9714-6929-4174-8DC6-801F6F5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32B0B-6FE8-4559-813C-C4E4A3ED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D9EEA-C028-493A-9972-4B64B00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3E29A-75A2-4B05-9F99-02C40E9D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F2EE5-35E6-43D2-A561-9B08F5C8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E6264-1245-4407-99B1-EF76E901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724-3D8A-420F-A689-641CF9CE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3F29E-12A7-4B2D-9F0C-C831DF05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C86F-D519-4B18-968C-08928230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4E0DA-AC77-4317-89DD-7A981A30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0BEB6-12DA-48F2-AD38-4C090540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38071-0E91-4A16-9C63-19171AB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927B-BBA4-4ABA-BF2A-EF55F91B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47BCA-037F-4BB2-8CA3-C4B54CCF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C8520-7465-4FE3-8D07-971F48A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7A8E4-97A6-4147-A62D-BF6A90F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58CFE-1EFC-4B96-B774-F708CEF1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6156-C4B5-4537-AEE7-BD9DBB83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BA348-34CF-49F2-AAD9-C0C8FE8F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37BF3-A472-45D8-96F7-6AE4AAAD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FA88A-3CFA-4FF2-8F78-233EC99B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EDACE-86DA-469F-A711-507DF6C5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679C6-7C6D-4DDC-A8CA-99B4821F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8FE37-DE89-4FA6-B0A9-F2B16BBB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1A92C-77AD-4CB5-A792-BEECA46F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A6852-267A-4CCE-B049-C0D2F5AB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3D7C0-8029-4C5F-86E9-484F81B5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9FA82-A697-4337-AF8C-4F3F011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B68B-E85F-4F23-B427-918FF48F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1F4A9-16BD-4A9D-A41F-E8C8EBC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F7197-F261-4783-9588-E5A8F605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8B4CC-85D8-4C27-8666-7DAE39F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E0AF4-EA0A-43E5-B52C-164B0089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58740-3270-471B-A3ED-7AE747B4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6F7D5-64A4-49BD-87FC-72B00672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8CAB7-1F92-40AB-8E90-6D4482E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797C5-FC69-49CF-B242-0C1498A4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AA4B2-9B88-4394-8533-BA8EA71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9C925-CB54-4549-841B-31F32C49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9492-DA19-4337-92A1-744D8D43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5B072-9300-428A-808D-22799834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8EF45-024B-4137-AE4D-C297D44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6FD5B-FC6A-4FDD-B30D-ECE2E24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FF994-8ABA-4B79-9F92-233ABAE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420F5-BFC4-4701-B47E-AE06E10E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7B824-FDBE-4976-8DC8-2578797F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C4914-5396-4E53-9C97-70FC03AB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FF3C5-66F7-4F81-9424-489D70EF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BE641-2BAA-4C8B-B0AE-8E4A2D38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D6D6C-0C00-48D7-9570-B1B51E8F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E03C-5935-406F-BB71-D371AAA3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BAD97-4AE2-4A5E-85BB-F9D8B65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70784-92A7-4A74-94AF-031DBFE1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921B2-7406-4156-BBE7-E53B28C7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65F9F-4D0D-472F-9FBE-54A99CF0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F5793-C9A7-47D8-BD98-5CA773D6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1578C-A6E0-45AB-90D7-0D26B10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207D4-03A6-4187-B062-85536F8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AABA6-3440-4B7F-9A34-4DE4703B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63412-9989-4A66-8044-7144C5A0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61111-9753-43E5-A038-CAFCBCC3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73A5-5F52-46C1-B155-4162E611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E26E8-F519-4BE3-AD46-FF41F9BB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A702D-1EEB-4A6F-BE07-E5105535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7A2E9-0600-4F54-BBC6-1A65D7F8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54A6B-AE6D-4037-8D97-D7076487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42C2A-7345-4041-A664-54EC7499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9F03F-0954-45D5-B22A-B07EAD80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A1747-A851-43AB-8979-8768BC3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B4415-BF52-4E94-AC61-BE5F7860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EF0C6-1DEC-468E-AE6F-0D75FA2D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CFE14-B109-49E4-B26C-4034CC24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E11D-E30F-451E-8437-C0296D00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E5783-4C88-4CEB-83B2-75245000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15F8D-C23E-40A0-8BE1-D5F03573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44ED8-ABA1-4460-8B56-BB0F38A2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D2165-F6FA-4244-9978-FF3110C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5D1F9-3C81-4FD7-8062-00E9D0D6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33724-03F7-4DA9-84E3-41D28423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8E38C-2F48-4320-BDB3-5C03F8CD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17E8E-9CA1-4844-B5A5-6894869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FEDF2-AD51-447E-B103-7C0C6B5B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B0901-E4D8-45A9-8C0D-7A461A4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D59D-B2C7-4862-B29B-C2943378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CB553-177E-49AE-BCA9-D0984017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4CE1B-AD5E-40EB-AC96-AF0D9A4D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5E1BA-4728-472D-A9EF-00844DC7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8483F-5EB7-4AFC-8A4D-5049B86D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1216F-84CB-459D-88B6-A9C2E5EE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6B1E7-DB0F-4DA9-A082-FFD56A51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56255-54D9-4A55-A0C3-732C505D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A3060-1F69-4589-BAA1-41528E01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5AA8A-F779-4E09-9526-DD1A7EB0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5B7A0-6DFE-48D1-8378-6F5DF280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A62-6230-4C8C-BA2D-34E3F6EE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9D79-5058-47B3-90C4-B055842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8ADB3-B98F-4538-83CA-8BCD5CD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72CC3-C653-4123-B713-2A71BF3D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58B60-4968-447B-8719-506DFEF7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31848-35FD-4E95-975B-C99F79DB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D857E-021A-46EB-8E17-49A41011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545B2-7DB6-4A9E-A594-E083A2D4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741229-8536-4644-B00F-076F310A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70AEB-E6D5-49B7-8770-2CD64D1D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8C0593-8A17-4A22-8D19-CADFB55C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07FC1-8863-42CC-9D4F-E0FD9FB4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B260-5C0B-4031-BC8E-DE34DF6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B9CF7-B0DF-43FD-92B1-E27308F7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90080-B9C6-4E89-A386-E8FDCB2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C4706-80FF-46F1-B97C-2B592B9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91863-A7D9-4B11-A79C-75528F5A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2EA1F-170B-4B56-A47D-A1FBA164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BE68A-6AD5-42AE-8CE0-126FECEB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83CA4-D223-4C79-9EF8-1D96AF05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9E684-F242-4381-89B4-A6A30D48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4CBEA-7B08-4805-96A6-0E484AFB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781FF-9233-412A-BCEC-AC82F75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BD94-D93E-48AF-A9A3-385215E3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6B7FE-5E86-4DAA-93F2-C762735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0803B-0DE3-4549-B8FF-F635EF65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FE99D1-E970-4555-87EB-2E4B4F23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27FA5-0635-4E7D-8430-2746771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F33FC-E17B-4C35-8C14-9426936E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A265FB-C249-414F-A6A1-A735108D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C579AB-7735-4F47-94E8-27DB440E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86F76-6890-44E0-9936-1CEF2A3A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9EF8AE-A207-413C-8F14-87AB0EAA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E52E8-B980-4F8A-B112-56551DAE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7BE2-71BA-44A0-A2DE-4F23210C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912C7-BA58-43C0-9C49-E3C91B07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91495-E504-45B6-94F0-42A0467A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76D69-5571-4693-9A53-46990F56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B6E72-7DF5-4900-BF54-D3F4770B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6B0E56-ACC9-4C77-82FF-0223C187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D6202-5507-4BFE-A20A-D321B6A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69DDE-CA8A-4AF3-B7FC-A3303AB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17476-4DB7-44F0-AC93-CAD2040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F0769-1799-4A8D-8D56-BA370B98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7279F-32B1-42A9-B10A-37840666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8171-E2F4-4AF4-9709-582ABE0E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FC49E-1DE9-4DA2-9A52-5F7C1A35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049C0-904D-4158-A61A-6B3FE359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6A0601-662D-4984-A5D8-9FCB4187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F12B65-7DD4-40E5-8CA4-0292917A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8BCEE-E553-45AB-835D-B49FAD01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2708DA-61A1-4A22-878B-094551BD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C5ADE-DE98-43B3-B0B2-A33ED19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4304A-32D1-48C4-BCE0-A7B466F5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06A3A-97FF-4E09-8B42-D9221373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BD7A5-48AF-47A7-A895-361849D2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36AE-4C9B-4686-AF7B-74233754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925AA4-9823-41C6-94EA-94044E76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D62EE-92FE-4FB9-BA00-D1BB5DB7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453F9-7ED8-4E4C-9290-C99BA7FC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7C6627-7403-49D5-B3B4-51E75473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5CD9EA-3A06-4276-B35A-05F929C5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F8DF1E-A510-42E4-AFC4-D93F2DC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BCBEAE-4052-4426-878B-5816F352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1A665-0F6E-4B65-8DC9-217F31E7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A8D0F7-5A28-4A98-9D79-7994253C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E3FE34-656C-4D72-87BD-7CDAD24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98EA0-E724-4036-AB2B-C1E5AF36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D57688-9C2C-42DD-900A-F76D1006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0E7ABE-C522-4D75-B314-C5483D8B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3A0501-0D13-4CC4-99A5-CF134FDC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24831B-A676-48D9-8770-FDC63D64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CA7731-FFCB-47A5-85A1-6AE1E5F0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192CC2-D12F-439A-BA9D-BC3106A7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91F0B-17A7-43C6-BE5C-74302EC1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4DEE44-A557-4CAE-B035-97A0E525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FC6D2E-8BDA-417B-A41A-398A639A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29373-4ABE-4839-A48E-4CF566A9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5C64-BF6D-41FB-BE0E-527D886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D8CE2-3722-41CB-9D45-52E565B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19CED2-8521-426C-A5A0-A3C78598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091318-1565-447F-A0F6-00785680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986AE5-488A-430D-83B0-BEE3E55F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13A3B3-0665-48D4-A71E-0EC81B60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8B3EAE-0DF1-4112-968A-97AE05FB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08A929-D2C4-4685-B3DD-7C0F85F0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292C25-A917-4745-9E04-E1FCEEB1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B55F4F-0D77-4C8F-A155-0798C509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7D4FD-6B28-4CE0-8C0A-43F6E326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3183-4078-4024-844F-11D7C2C9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25D831-6A40-43BF-A486-ADBE295F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1AA3A1-6B88-4DCD-9D9D-AE67F7CB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3C6B33-91E1-4E8B-8ABC-854686B2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C6B90A-4CB5-4732-94AA-9B4B945C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B79DA-73EF-410F-A5CF-5B04675F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797F0D-53E3-4E58-ACB2-9B8986E7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B4A54E-6D86-4FCC-B503-E397FF39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A618F9-9204-4F77-A21A-6CF85732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088325-0DEE-4C1E-9651-3A42C1B9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B3B234-0B0C-433B-8449-5C65BC0A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5201-6A20-4998-A8F1-C0C874C2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FF8BF4-54F2-4DD4-B941-38ABB83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4BD033-EE97-4B94-8C09-D2B73421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CEEEB6-8C49-4C14-B998-4E063100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33A712-5BEF-4074-9902-7B3A17D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071125-00CC-480B-8442-350EC7A1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C81884-B645-46A8-B4F6-01CE6FB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5D7CDF-7A86-4C08-A167-E22BA75D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5EA4B4-772A-4143-91B7-542DF46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0CC53D-DC2B-433B-99F9-20B8C0DF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4E33C4-FA98-44EE-A5A0-D8D470F4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F4A-9EC7-4B6A-B6C8-3FCE4312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694D-B6B0-4469-A017-75E3F3B0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74EEBB-3A43-4D10-BB9A-39C4A09B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D9FDDD-4A8C-4EDE-B979-84C41502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4E7565-3D2A-41FC-84E6-DDAA20A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E97B7C-F37B-49BB-A27E-0C8A42C7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ACFDF2-13E2-4DD8-9D31-67374600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89C9CD-C95E-46E8-8BC2-48BB5B85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A130F7-B4E8-4B5D-9D61-E551043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215A2A-FA44-49BD-A804-E63A81A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F4C9EE-8252-40AA-8ABC-36EE9D2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900A29-938C-45E6-AEAC-9228B5C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D3E0-F700-43D3-AA1B-C011963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172D2E-E15F-4CC0-8139-74772202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EA8553-3535-46FA-BB82-66289F14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61FE14-60B3-489F-8BF6-78AA14E2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A0FB63-36FF-482D-AF72-6B425170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3717B1-4F16-48F6-8236-48F0A58E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1F6760-A0C1-4754-986F-F9B03115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75F103-C3D5-455D-B79E-85B25DCF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8E1A8C-B5F6-46BB-B6DC-908D85D1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AA2313-5F90-49A0-83CC-F078BDF9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EAB4DF-826C-4223-BEB2-BC1A206B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A15A-3881-4AEC-8387-2FFCF5D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1CA9B4-4CD7-4A5F-8F34-EAB27978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0CBE32-02D8-4BFA-B771-D648AE90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D42EA0-ABA7-4F72-B55B-DF2517B4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516046-C8EC-44D2-9E0F-B9F45BC2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2480EE-12E8-471B-B898-B1E0414B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C25EC5-B95B-4DFA-BDBC-A7774B0F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6EEBF2-98C9-490E-B300-5FA39794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EE4705-AFC7-4069-8113-7DC4324E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BDB2B8-08E5-4997-A615-B6A5657B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40428B-F403-4F00-A6A7-1FCB0690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50CA-AB54-43C1-AF7C-AB9EC3B9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3E9F5C-7A4D-415E-9792-33998998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810926-EBA5-4762-853C-341F1754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C08030-6CD4-4C52-A715-5A77B132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DC35FD-6DE2-45A3-857B-F9DAEAD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79AD25-665D-4CF2-B954-E883CCA9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7DDA08-4EB0-49BB-A57B-771B76A0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B83BBE-722B-4BCC-B81E-C6A88CC1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EA1499-7E8C-4C91-8391-3F9D738F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F304BB-2372-415C-9D3C-042A8C2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E25EC3-0D78-40DE-83AD-C3765F88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7662-40DF-4752-98BF-44643263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271ED8-6CB9-4305-8B08-D6034D7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090457-ECD1-495E-B151-D8365521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606789-35BE-4ED9-A75C-3807869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FE7E5E-14F0-463A-B16E-A40285C4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8FC002-6A6E-4BD8-836D-101E7FD2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AC44D5-EE99-4771-BF75-D7AE549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D7EE61-82BA-4BA9-A79E-53E18F5C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885839-F8AB-4865-9B41-B6D3D678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D5E7D3-3B88-4C56-B228-0B951E95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D31F6B-9273-4026-923C-D022BAC3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7DD3-D887-4787-B99B-BEDBB2C8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DF32C2-2BC8-4E28-B4DB-87BF77F3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5AA106-66FB-478D-B3D7-BAC1C19A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C3BCFB-4201-461D-9174-2760C291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7E5D72-ACBB-4CB8-A72D-2799343A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2B3DC6-B8F1-451D-A1CA-E977C661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B1ACBE-C9AF-4C5E-9A50-526DB9E1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A701B4-D324-4474-9012-DDEEE68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41548A-FD36-49DC-8D2F-542764A5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80852A-2BE5-40D4-B433-2F2C3D8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39DBDF-7E61-41A2-AC5C-D01CAA69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2EF1-F6D9-4918-A502-D0ADC71B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CB4950-2BC0-4FE2-9E3D-7D39BC2A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948136-90B6-4C09-B678-99DE8136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882B64-7C34-41CB-9C7D-20F35909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3904B9-64BA-479F-98C8-6DA84630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AEA946-34DC-4141-986D-6C642DB7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488D7C-906F-43B3-8AE4-6C9163A1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3B480C-8EE6-4791-8517-EB707243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D722D5-7ECE-4050-8714-CB09133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56C924-C888-443A-B8E2-5BFCC648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A542A3-81F9-4E2D-997D-D174AC2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AF4C-B7D7-45ED-A667-3B5F2589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A95C07-7268-42F1-A1F2-26C3DDF0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283365-F538-4A81-87FA-5DAB344B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F5C013-0E28-442E-A837-E2BA5A89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0A39-BA05-4FC3-8710-FECA961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CC22-5F9A-4FF3-A81F-D3862B9D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6E6-E3CA-4A5D-9E63-7DE28DC0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3DE1B-85C4-46A8-87F1-031A262D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E03D-24CF-4F01-B1B7-30AE26F5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3F70-C76C-4DAA-A92E-FF0A308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7679-6DD0-4E90-B06D-FC9C2EA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02043-3F69-4B2D-8EC0-E4894A1F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B54D-C0D7-4DB0-9B0B-E6BB874C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DB13-42EF-4F3D-8448-713C131E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37AD-21E6-482E-8987-F920F4F5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3A0B-4F1A-409D-9E23-636ABBE2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E0DC-1788-4860-BD62-2027B806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A9A-AF76-43A7-91BF-2D7C4E4A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18721-5FF8-436C-8F50-94B58B19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6520-AFD0-4184-BFBA-EBD2FC9E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067D-6454-4435-A206-D817BDCF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5429-EF29-4408-813D-D1BB65A2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1B438-C865-407C-BBF5-C5D995B8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6E55C-F401-4522-BE04-12FC9BF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422C3-B726-41E0-A955-B15A8611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52EE9-F781-4CF8-B60F-76466E89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6453A-6500-4420-AA78-26BCBBE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22BCE-1ECB-49BB-BF5D-C19CBE55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32E-29AE-4B76-8C37-6F0CA5E6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49D2-AE1A-48B1-8C45-F535E13C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B336E-1F1F-4944-B4C4-61F6D02B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E5214-8908-4367-8B77-73FD4E9F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78C0-DA41-4FD3-846D-AEA148E6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88FC0-C770-4278-9875-A339E8AE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45A1-B29F-45CC-90D2-9232A340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F762D-8E89-4921-8C15-B9F25864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91C7C-B283-4CB0-9307-91C80EAE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E543-33A1-484D-A3FC-DC76082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B6F57-39DD-4F45-BACA-2CB058A0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C3F-32A5-4726-892A-8DF670C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C45AB-B4DA-4D7A-A528-6BA40388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BF07-7A00-49B1-BE24-BD9AF80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BF962-6D31-4D2C-9F43-4FB49E2F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9CAB8-3030-4906-AB07-5DAF45FA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EA63D-B623-40A4-97AF-4CA6E38C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C126-9CB2-46BD-97E7-E324AE5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3DDF6-A997-43E7-9091-80D4EA72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42E81-3353-4877-AB2A-D60A19EF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A710F-5BE9-4C2A-A631-12D0603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36A4F-EE1B-46CA-BF94-8A6B88E3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E7A-99A2-4060-ABCC-564F785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9C765-7F65-464D-8DF9-5090283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8A1B-B114-4702-A5B6-A49DF15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C3D32-00EA-42B0-9222-B04F77B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29B7E-08B2-4290-8D57-52597123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956EC-EF1A-40A0-9AE2-22787D74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468A-D7BF-407B-97BD-78E32A20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8BFCE-2156-41E4-A1EC-B79867C5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99A1B-E770-49CA-AD70-80BDD556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25942-4B7F-4F2B-A7E9-3FC6104E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3010-D6D7-45F0-9CC8-959DBA5C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9B5-A02E-4225-AF98-317D630D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25598-070F-49D4-8818-9DC910F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86AD8-DAF0-4253-9294-5FE4C8FC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5E054-6582-4EE7-A021-F391D4E9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D98A9-BD46-44D1-A3A4-782E51C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75877-6960-4B06-828F-17EEEC8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424A7-593D-477C-9EF2-BAB88A36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8B2E6-92C4-4D9F-A67D-C11BF8C8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55909-BC5E-47DE-8226-20B1F711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C1850-7D1E-4601-9522-DF45BED8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CC377-149F-4339-AE9A-F2A968C7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168C-0D5F-4068-AC4B-5EB2D932A1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F90A-F14D-4091-843F-1EA70928BA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4C78-6A14-4E05-A736-0E461F52B2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BBA5-CFD5-42CD-A0D9-B8C3B42AE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8140-7E62-461C-B555-15B165C2F0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E1C2-9A1B-4A53-A0A1-CA8C5DDE4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EF7C-815C-4911-9D24-0DC0993017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6B83-2A45-4DAA-B994-B16116D872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D3F-AE3D-43A6-B6DF-CFA230712E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4E7-A94B-4B3C-B58A-50BA65DB7B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C6E6-C71F-44CD-BE18-0855B25587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3F11-E66D-4C44-92FE-8DA1359AB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2C2E-5900-452E-B2E5-A362DD1B6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C7F2-A739-4F5F-B1E8-9ACEE1734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F68F-0601-439A-A2C0-311E0A434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8FF7-5EEF-4630-9E5E-4D05E0DF5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298D-4BA6-46BF-BBBF-0014C1F93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8518-334D-4FA2-867A-392899A40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D8DC-DC84-45ED-985E-1A57B99206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8C8E-8F5E-4E95-AA8D-0E59AF77E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C774-9078-4C74-A29E-FCA41D4430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1C0D-9885-404F-A44C-A597995CA4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9FC7-8C07-47A1-9DAC-9E121E00B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B27B-863D-4F18-BD0E-82FCD4A393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51F-084C-498C-9777-6C7E8BEBB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BDC-79F2-4EE4-9DA3-7989BD00B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70B6-A023-45D1-9034-879FADB36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61B4-0173-482E-9E70-E649421B49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FEF6-8A2F-4C67-B2C9-F600A83F4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80A6-8385-4E71-88D3-C07AB8F85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587-F52D-45E9-B481-CD2FFDFFE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A7E2-F5CA-44DA-8477-1E36C0F4DF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45AF-B3C0-4517-BBDF-492129B6FF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EC96-B701-4EBF-B044-A9AA9DAE77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4DB-E805-4CB6-8CBE-0D583519A6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0325-2789-414E-9D71-46BEDBD34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DE12-93D3-4F11-9A56-0D50928D8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1CA1-56BF-4D91-B12B-DBFB26B660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C384-490D-461B-AB4C-A0CEC2D519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8AB8-E422-4A70-B654-C64ECF6C65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4D3A-C7A6-48CE-8147-33F982182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EF08-14F2-4489-BF81-BE5D6E3C5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6473-9F9C-4B89-ACC7-F6D35D479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A7B6-71B2-4B9E-9894-7B5F794463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1679-E4E2-442D-8FFD-DCBB336465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5B4C-F349-4A4C-8A2E-D6481CF6CF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2FC-B9AF-4D17-B93E-76B0A259CB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615-32BA-417E-B8C0-6ABAFF27CA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274A-D02D-4E24-B518-66CD936074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EF33-7E65-4D4D-BD2E-F60C488E29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429080" cy="7333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70866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2185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105760" cy="522000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21858"/>
          <p:cNvSpPr/>
          <p:nvPr/>
        </p:nvSpPr>
        <p:spPr>
          <a:xfrm>
            <a:off x="5160960" y="1266840"/>
            <a:ext cx="1427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21859"/>
          <p:cNvSpPr/>
          <p:nvPr/>
        </p:nvSpPr>
        <p:spPr>
          <a:xfrm>
            <a:off x="4627440" y="2346480"/>
            <a:ext cx="1024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21860"/>
          <p:cNvSpPr/>
          <p:nvPr/>
        </p:nvSpPr>
        <p:spPr>
          <a:xfrm>
            <a:off x="3776760" y="2905200"/>
            <a:ext cx="41799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21861"/>
          <p:cNvSpPr/>
          <p:nvPr/>
        </p:nvSpPr>
        <p:spPr>
          <a:xfrm>
            <a:off x="7319880" y="3781440"/>
            <a:ext cx="1024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21862"/>
          <p:cNvSpPr/>
          <p:nvPr/>
        </p:nvSpPr>
        <p:spPr>
          <a:xfrm>
            <a:off x="1249200" y="4327560"/>
            <a:ext cx="61311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21863"/>
          <p:cNvSpPr/>
          <p:nvPr/>
        </p:nvSpPr>
        <p:spPr>
          <a:xfrm>
            <a:off x="1122480" y="5394240"/>
            <a:ext cx="1023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21864"/>
          <p:cNvSpPr/>
          <p:nvPr/>
        </p:nvSpPr>
        <p:spPr>
          <a:xfrm>
            <a:off x="7535880" y="5369040"/>
            <a:ext cx="1023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2083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077320" cy="264816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20834"/>
          <p:cNvSpPr/>
          <p:nvPr/>
        </p:nvSpPr>
        <p:spPr>
          <a:xfrm>
            <a:off x="3408480" y="2562120"/>
            <a:ext cx="50385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20835"/>
          <p:cNvSpPr/>
          <p:nvPr/>
        </p:nvSpPr>
        <p:spPr>
          <a:xfrm>
            <a:off x="1262160" y="3057480"/>
            <a:ext cx="12952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20836"/>
          <p:cNvSpPr/>
          <p:nvPr/>
        </p:nvSpPr>
        <p:spPr>
          <a:xfrm>
            <a:off x="3395520" y="3565440"/>
            <a:ext cx="492156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20837"/>
          <p:cNvSpPr/>
          <p:nvPr/>
        </p:nvSpPr>
        <p:spPr>
          <a:xfrm>
            <a:off x="1287360" y="4137120"/>
            <a:ext cx="129564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19809" descr=""/>
          <p:cNvPicPr/>
          <p:nvPr/>
        </p:nvPicPr>
        <p:blipFill>
          <a:blip r:embed="rId1"/>
          <a:stretch/>
        </p:blipFill>
        <p:spPr>
          <a:xfrm>
            <a:off x="438120" y="1747800"/>
            <a:ext cx="8267760" cy="3362400"/>
          </a:xfrm>
          <a:prstGeom prst="rect">
            <a:avLst/>
          </a:prstGeom>
          <a:ln w="0">
            <a:noFill/>
          </a:ln>
        </p:spPr>
      </p:pic>
      <p:sp>
        <p:nvSpPr>
          <p:cNvPr id="1496" name="矩形 119810"/>
          <p:cNvSpPr/>
          <p:nvPr/>
        </p:nvSpPr>
        <p:spPr>
          <a:xfrm>
            <a:off x="5452920" y="329868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1878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05920" cy="885960"/>
          </a:xfrm>
          <a:prstGeom prst="rect">
            <a:avLst/>
          </a:prstGeom>
          <a:ln w="0">
            <a:noFill/>
          </a:ln>
        </p:spPr>
      </p:pic>
      <p:pic>
        <p:nvPicPr>
          <p:cNvPr id="1498" name="图片 118786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5476680" cy="1943280"/>
          </a:xfrm>
          <a:prstGeom prst="rect">
            <a:avLst/>
          </a:prstGeom>
          <a:ln w="0">
            <a:noFill/>
          </a:ln>
        </p:spPr>
      </p:pic>
      <p:pic>
        <p:nvPicPr>
          <p:cNvPr id="1499" name="图片 118787" descr=""/>
          <p:cNvPicPr/>
          <p:nvPr/>
        </p:nvPicPr>
        <p:blipFill>
          <a:blip r:embed="rId3"/>
          <a:stretch/>
        </p:blipFill>
        <p:spPr>
          <a:xfrm>
            <a:off x="6659640" y="2708280"/>
            <a:ext cx="2066760" cy="230508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18788"/>
          <p:cNvSpPr/>
          <p:nvPr/>
        </p:nvSpPr>
        <p:spPr>
          <a:xfrm>
            <a:off x="7885080" y="184464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17761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6067440" cy="88596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17762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7800840" cy="4114800"/>
          </a:xfrm>
          <a:prstGeom prst="rect">
            <a:avLst/>
          </a:prstGeom>
          <a:ln w="0">
            <a:noFill/>
          </a:ln>
        </p:spPr>
      </p:pic>
      <p:pic>
        <p:nvPicPr>
          <p:cNvPr id="1503" name="图片 117763" descr=""/>
          <p:cNvPicPr/>
          <p:nvPr/>
        </p:nvPicPr>
        <p:blipFill>
          <a:blip r:embed="rId3"/>
          <a:stretch/>
        </p:blipFill>
        <p:spPr>
          <a:xfrm>
            <a:off x="7164360" y="1700280"/>
            <a:ext cx="1419120" cy="61920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17764"/>
          <p:cNvSpPr/>
          <p:nvPr/>
        </p:nvSpPr>
        <p:spPr>
          <a:xfrm>
            <a:off x="7667640" y="177336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16737" descr=""/>
          <p:cNvPicPr/>
          <p:nvPr/>
        </p:nvPicPr>
        <p:blipFill>
          <a:blip r:embed="rId1"/>
          <a:stretch/>
        </p:blipFill>
        <p:spPr>
          <a:xfrm>
            <a:off x="433440" y="1585800"/>
            <a:ext cx="8277120" cy="368640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16738"/>
          <p:cNvSpPr/>
          <p:nvPr/>
        </p:nvSpPr>
        <p:spPr>
          <a:xfrm>
            <a:off x="7667640" y="249228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1571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4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14689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389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13665" descr=""/>
          <p:cNvPicPr/>
          <p:nvPr/>
        </p:nvPicPr>
        <p:blipFill>
          <a:blip r:embed="rId1"/>
          <a:stretch/>
        </p:blipFill>
        <p:spPr>
          <a:xfrm>
            <a:off x="504720" y="1333440"/>
            <a:ext cx="8134560" cy="4191120"/>
          </a:xfrm>
          <a:prstGeom prst="rect">
            <a:avLst/>
          </a:prstGeom>
          <a:ln w="0">
            <a:noFill/>
          </a:ln>
        </p:spPr>
      </p:pic>
      <p:sp>
        <p:nvSpPr>
          <p:cNvPr id="1510" name="矩形 113666"/>
          <p:cNvSpPr/>
          <p:nvPr/>
        </p:nvSpPr>
        <p:spPr>
          <a:xfrm>
            <a:off x="4830840" y="1774800"/>
            <a:ext cx="14698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13667"/>
          <p:cNvSpPr/>
          <p:nvPr/>
        </p:nvSpPr>
        <p:spPr>
          <a:xfrm>
            <a:off x="3611520" y="2765520"/>
            <a:ext cx="4921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13668"/>
          <p:cNvSpPr/>
          <p:nvPr/>
        </p:nvSpPr>
        <p:spPr>
          <a:xfrm>
            <a:off x="1452600" y="3260880"/>
            <a:ext cx="14698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13670"/>
          <p:cNvSpPr/>
          <p:nvPr/>
        </p:nvSpPr>
        <p:spPr>
          <a:xfrm>
            <a:off x="3014640" y="4213080"/>
            <a:ext cx="14698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13671"/>
          <p:cNvSpPr/>
          <p:nvPr/>
        </p:nvSpPr>
        <p:spPr>
          <a:xfrm>
            <a:off x="2265480" y="4822920"/>
            <a:ext cx="54021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图片 112641" descr=""/>
          <p:cNvPicPr/>
          <p:nvPr/>
        </p:nvPicPr>
        <p:blipFill>
          <a:blip r:embed="rId1"/>
          <a:stretch/>
        </p:blipFill>
        <p:spPr>
          <a:xfrm>
            <a:off x="485640" y="1876320"/>
            <a:ext cx="81727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5954" descr=""/>
          <p:cNvPicPr/>
          <p:nvPr/>
        </p:nvPicPr>
        <p:blipFill>
          <a:blip r:embed="rId1"/>
          <a:stretch/>
        </p:blipFill>
        <p:spPr>
          <a:xfrm>
            <a:off x="600120" y="1081080"/>
            <a:ext cx="7943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图片 111617" descr=""/>
          <p:cNvPicPr/>
          <p:nvPr/>
        </p:nvPicPr>
        <p:blipFill>
          <a:blip r:embed="rId1"/>
          <a:stretch/>
        </p:blipFill>
        <p:spPr>
          <a:xfrm>
            <a:off x="476280" y="1819440"/>
            <a:ext cx="8191440" cy="3219120"/>
          </a:xfrm>
          <a:prstGeom prst="rect">
            <a:avLst/>
          </a:prstGeom>
          <a:ln w="0">
            <a:noFill/>
          </a:ln>
        </p:spPr>
      </p:pic>
      <p:sp>
        <p:nvSpPr>
          <p:cNvPr id="1517" name="矩形 111618"/>
          <p:cNvSpPr/>
          <p:nvPr/>
        </p:nvSpPr>
        <p:spPr>
          <a:xfrm>
            <a:off x="5275440" y="1901880"/>
            <a:ext cx="1168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11619"/>
          <p:cNvSpPr/>
          <p:nvPr/>
        </p:nvSpPr>
        <p:spPr>
          <a:xfrm>
            <a:off x="3103560" y="285444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11620"/>
          <p:cNvSpPr/>
          <p:nvPr/>
        </p:nvSpPr>
        <p:spPr>
          <a:xfrm>
            <a:off x="7650000" y="3527280"/>
            <a:ext cx="116856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111621"/>
          <p:cNvSpPr/>
          <p:nvPr/>
        </p:nvSpPr>
        <p:spPr>
          <a:xfrm>
            <a:off x="1503360" y="4048200"/>
            <a:ext cx="70293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111622"/>
          <p:cNvSpPr/>
          <p:nvPr/>
        </p:nvSpPr>
        <p:spPr>
          <a:xfrm>
            <a:off x="1300320" y="4581360"/>
            <a:ext cx="291132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2" name="图片 110593" descr=""/>
          <p:cNvPicPr/>
          <p:nvPr/>
        </p:nvPicPr>
        <p:blipFill>
          <a:blip r:embed="rId1"/>
          <a:stretch/>
        </p:blipFill>
        <p:spPr>
          <a:xfrm>
            <a:off x="495360" y="1695600"/>
            <a:ext cx="815328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图片 109569" descr=""/>
          <p:cNvPicPr/>
          <p:nvPr/>
        </p:nvPicPr>
        <p:blipFill>
          <a:blip r:embed="rId1"/>
          <a:stretch/>
        </p:blipFill>
        <p:spPr>
          <a:xfrm>
            <a:off x="619200" y="1309680"/>
            <a:ext cx="7905600" cy="4238640"/>
          </a:xfrm>
          <a:prstGeom prst="rect">
            <a:avLst/>
          </a:prstGeom>
          <a:ln w="0">
            <a:noFill/>
          </a:ln>
        </p:spPr>
      </p:pic>
      <p:sp>
        <p:nvSpPr>
          <p:cNvPr id="1524" name="矩形 109570"/>
          <p:cNvSpPr/>
          <p:nvPr/>
        </p:nvSpPr>
        <p:spPr>
          <a:xfrm>
            <a:off x="3014640" y="4734000"/>
            <a:ext cx="422136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108545" descr=""/>
          <p:cNvPicPr/>
          <p:nvPr/>
        </p:nvPicPr>
        <p:blipFill>
          <a:blip r:embed="rId1"/>
          <a:stretch/>
        </p:blipFill>
        <p:spPr>
          <a:xfrm>
            <a:off x="600120" y="1604880"/>
            <a:ext cx="7943760" cy="3648240"/>
          </a:xfrm>
          <a:prstGeom prst="rect">
            <a:avLst/>
          </a:prstGeom>
          <a:ln w="0">
            <a:noFill/>
          </a:ln>
        </p:spPr>
      </p:pic>
      <p:sp>
        <p:nvSpPr>
          <p:cNvPr id="1526" name="矩形 108546"/>
          <p:cNvSpPr/>
          <p:nvPr/>
        </p:nvSpPr>
        <p:spPr>
          <a:xfrm>
            <a:off x="1795320" y="2003400"/>
            <a:ext cx="5729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108547"/>
          <p:cNvSpPr/>
          <p:nvPr/>
        </p:nvSpPr>
        <p:spPr>
          <a:xfrm>
            <a:off x="3218040" y="3044880"/>
            <a:ext cx="57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108548"/>
          <p:cNvSpPr/>
          <p:nvPr/>
        </p:nvSpPr>
        <p:spPr>
          <a:xfrm>
            <a:off x="6799320" y="305748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108549"/>
          <p:cNvSpPr/>
          <p:nvPr/>
        </p:nvSpPr>
        <p:spPr>
          <a:xfrm>
            <a:off x="7802640" y="412416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108550"/>
          <p:cNvSpPr/>
          <p:nvPr/>
        </p:nvSpPr>
        <p:spPr>
          <a:xfrm>
            <a:off x="1541520" y="4670280"/>
            <a:ext cx="49021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107521" descr=""/>
          <p:cNvPicPr/>
          <p:nvPr/>
        </p:nvPicPr>
        <p:blipFill>
          <a:blip r:embed="rId1"/>
          <a:stretch/>
        </p:blipFill>
        <p:spPr>
          <a:xfrm>
            <a:off x="657360" y="1409760"/>
            <a:ext cx="7829280" cy="4038480"/>
          </a:xfrm>
          <a:prstGeom prst="rect">
            <a:avLst/>
          </a:prstGeom>
          <a:ln w="0">
            <a:noFill/>
          </a:ln>
        </p:spPr>
      </p:pic>
      <p:sp>
        <p:nvSpPr>
          <p:cNvPr id="1532" name="矩形 107522"/>
          <p:cNvSpPr/>
          <p:nvPr/>
        </p:nvSpPr>
        <p:spPr>
          <a:xfrm>
            <a:off x="3611520" y="181296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106497" descr=""/>
          <p:cNvPicPr/>
          <p:nvPr/>
        </p:nvPicPr>
        <p:blipFill>
          <a:blip r:embed="rId1"/>
          <a:stretch/>
        </p:blipFill>
        <p:spPr>
          <a:xfrm>
            <a:off x="685800" y="2614680"/>
            <a:ext cx="7772400" cy="1628640"/>
          </a:xfrm>
          <a:prstGeom prst="rect">
            <a:avLst/>
          </a:prstGeom>
          <a:ln w="0">
            <a:noFill/>
          </a:ln>
        </p:spPr>
      </p:pic>
      <p:sp>
        <p:nvSpPr>
          <p:cNvPr id="1534" name="矩形 106498"/>
          <p:cNvSpPr/>
          <p:nvPr/>
        </p:nvSpPr>
        <p:spPr>
          <a:xfrm>
            <a:off x="1998720" y="3108240"/>
            <a:ext cx="638964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矩形 106499"/>
          <p:cNvSpPr/>
          <p:nvPr/>
        </p:nvSpPr>
        <p:spPr>
          <a:xfrm>
            <a:off x="1452600" y="3654360"/>
            <a:ext cx="376704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6977" descr=""/>
          <p:cNvPicPr/>
          <p:nvPr/>
        </p:nvPicPr>
        <p:blipFill>
          <a:blip r:embed="rId1"/>
          <a:stretch/>
        </p:blipFill>
        <p:spPr>
          <a:xfrm>
            <a:off x="666720" y="1685880"/>
            <a:ext cx="7810560" cy="34862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6978"/>
          <p:cNvSpPr/>
          <p:nvPr/>
        </p:nvSpPr>
        <p:spPr>
          <a:xfrm>
            <a:off x="1835280" y="2276640"/>
            <a:ext cx="20127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6979"/>
          <p:cNvSpPr/>
          <p:nvPr/>
        </p:nvSpPr>
        <p:spPr>
          <a:xfrm>
            <a:off x="1557360" y="3132000"/>
            <a:ext cx="207000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6980"/>
          <p:cNvSpPr/>
          <p:nvPr/>
        </p:nvSpPr>
        <p:spPr>
          <a:xfrm>
            <a:off x="1908000" y="3621240"/>
            <a:ext cx="19209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6981"/>
          <p:cNvSpPr/>
          <p:nvPr/>
        </p:nvSpPr>
        <p:spPr>
          <a:xfrm>
            <a:off x="1538280" y="4187880"/>
            <a:ext cx="23036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6982"/>
          <p:cNvSpPr/>
          <p:nvPr/>
        </p:nvSpPr>
        <p:spPr>
          <a:xfrm>
            <a:off x="1555920" y="4629240"/>
            <a:ext cx="2198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6984"/>
          <p:cNvSpPr/>
          <p:nvPr/>
        </p:nvSpPr>
        <p:spPr>
          <a:xfrm>
            <a:off x="3894120" y="2529000"/>
            <a:ext cx="100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6985"/>
          <p:cNvSpPr/>
          <p:nvPr/>
        </p:nvSpPr>
        <p:spPr>
          <a:xfrm>
            <a:off x="3932280" y="3125880"/>
            <a:ext cx="100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6987"/>
          <p:cNvSpPr/>
          <p:nvPr/>
        </p:nvSpPr>
        <p:spPr>
          <a:xfrm>
            <a:off x="3922560" y="3768840"/>
            <a:ext cx="10810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6988"/>
          <p:cNvSpPr/>
          <p:nvPr/>
        </p:nvSpPr>
        <p:spPr>
          <a:xfrm>
            <a:off x="3922560" y="4213080"/>
            <a:ext cx="108108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6989"/>
          <p:cNvSpPr/>
          <p:nvPr/>
        </p:nvSpPr>
        <p:spPr>
          <a:xfrm>
            <a:off x="5126040" y="2846520"/>
            <a:ext cx="13906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6990"/>
          <p:cNvSpPr/>
          <p:nvPr/>
        </p:nvSpPr>
        <p:spPr>
          <a:xfrm>
            <a:off x="5129280" y="3463920"/>
            <a:ext cx="13874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6991"/>
          <p:cNvSpPr/>
          <p:nvPr/>
        </p:nvSpPr>
        <p:spPr>
          <a:xfrm>
            <a:off x="5148360" y="3886200"/>
            <a:ext cx="13874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6992"/>
          <p:cNvSpPr/>
          <p:nvPr/>
        </p:nvSpPr>
        <p:spPr>
          <a:xfrm>
            <a:off x="6611760" y="2997360"/>
            <a:ext cx="17132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6993"/>
          <p:cNvSpPr/>
          <p:nvPr/>
        </p:nvSpPr>
        <p:spPr>
          <a:xfrm>
            <a:off x="6608880" y="3479760"/>
            <a:ext cx="1665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6994"/>
          <p:cNvSpPr/>
          <p:nvPr/>
        </p:nvSpPr>
        <p:spPr>
          <a:xfrm>
            <a:off x="6621480" y="3898800"/>
            <a:ext cx="166536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32097" descr=""/>
          <p:cNvPicPr/>
          <p:nvPr/>
        </p:nvPicPr>
        <p:blipFill>
          <a:blip r:embed="rId1"/>
          <a:stretch/>
        </p:blipFill>
        <p:spPr>
          <a:xfrm>
            <a:off x="762120" y="1538280"/>
            <a:ext cx="7619760" cy="378144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32099"/>
          <p:cNvSpPr/>
          <p:nvPr/>
        </p:nvSpPr>
        <p:spPr>
          <a:xfrm>
            <a:off x="1620720" y="4078440"/>
            <a:ext cx="10083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32100"/>
          <p:cNvSpPr/>
          <p:nvPr/>
        </p:nvSpPr>
        <p:spPr>
          <a:xfrm>
            <a:off x="3220920" y="4065480"/>
            <a:ext cx="15670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32101"/>
          <p:cNvSpPr/>
          <p:nvPr/>
        </p:nvSpPr>
        <p:spPr>
          <a:xfrm>
            <a:off x="5138640" y="3849840"/>
            <a:ext cx="5587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32102"/>
          <p:cNvSpPr/>
          <p:nvPr/>
        </p:nvSpPr>
        <p:spPr>
          <a:xfrm>
            <a:off x="6192720" y="3849840"/>
            <a:ext cx="3175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32103"/>
          <p:cNvSpPr/>
          <p:nvPr/>
        </p:nvSpPr>
        <p:spPr>
          <a:xfrm>
            <a:off x="5148360" y="4365720"/>
            <a:ext cx="13334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32104"/>
          <p:cNvSpPr/>
          <p:nvPr/>
        </p:nvSpPr>
        <p:spPr>
          <a:xfrm>
            <a:off x="6588000" y="4149720"/>
            <a:ext cx="1717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30050" descr=""/>
          <p:cNvPicPr/>
          <p:nvPr/>
        </p:nvPicPr>
        <p:blipFill>
          <a:blip r:embed="rId1"/>
          <a:stretch/>
        </p:blipFill>
        <p:spPr>
          <a:xfrm>
            <a:off x="776160" y="2209680"/>
            <a:ext cx="7591680" cy="24386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30051"/>
          <p:cNvSpPr/>
          <p:nvPr/>
        </p:nvSpPr>
        <p:spPr>
          <a:xfrm>
            <a:off x="2316240" y="2359080"/>
            <a:ext cx="12952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30052"/>
          <p:cNvSpPr/>
          <p:nvPr/>
        </p:nvSpPr>
        <p:spPr>
          <a:xfrm>
            <a:off x="2951280" y="2765520"/>
            <a:ext cx="757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30053"/>
          <p:cNvSpPr/>
          <p:nvPr/>
        </p:nvSpPr>
        <p:spPr>
          <a:xfrm>
            <a:off x="1668600" y="4111560"/>
            <a:ext cx="1390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30054"/>
          <p:cNvSpPr/>
          <p:nvPr/>
        </p:nvSpPr>
        <p:spPr>
          <a:xfrm>
            <a:off x="7040520" y="2346480"/>
            <a:ext cx="12445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30055"/>
          <p:cNvSpPr/>
          <p:nvPr/>
        </p:nvSpPr>
        <p:spPr>
          <a:xfrm>
            <a:off x="6562800" y="2803680"/>
            <a:ext cx="509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30056"/>
          <p:cNvSpPr/>
          <p:nvPr/>
        </p:nvSpPr>
        <p:spPr>
          <a:xfrm>
            <a:off x="7155000" y="3235320"/>
            <a:ext cx="484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31073" descr=""/>
          <p:cNvPicPr/>
          <p:nvPr/>
        </p:nvPicPr>
        <p:blipFill>
          <a:blip r:embed="rId1"/>
          <a:stretch/>
        </p:blipFill>
        <p:spPr>
          <a:xfrm>
            <a:off x="728640" y="1747800"/>
            <a:ext cx="7686720" cy="33624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31074"/>
          <p:cNvSpPr/>
          <p:nvPr/>
        </p:nvSpPr>
        <p:spPr>
          <a:xfrm>
            <a:off x="2811600" y="3006720"/>
            <a:ext cx="823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31075"/>
          <p:cNvSpPr/>
          <p:nvPr/>
        </p:nvSpPr>
        <p:spPr>
          <a:xfrm>
            <a:off x="1795320" y="3425760"/>
            <a:ext cx="11923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31076"/>
          <p:cNvSpPr/>
          <p:nvPr/>
        </p:nvSpPr>
        <p:spPr>
          <a:xfrm>
            <a:off x="3840120" y="3413160"/>
            <a:ext cx="824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31077"/>
          <p:cNvSpPr/>
          <p:nvPr/>
        </p:nvSpPr>
        <p:spPr>
          <a:xfrm>
            <a:off x="7510320" y="2549520"/>
            <a:ext cx="7732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31078"/>
          <p:cNvSpPr/>
          <p:nvPr/>
        </p:nvSpPr>
        <p:spPr>
          <a:xfrm>
            <a:off x="6595920" y="2981160"/>
            <a:ext cx="12891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31079"/>
          <p:cNvSpPr/>
          <p:nvPr/>
        </p:nvSpPr>
        <p:spPr>
          <a:xfrm>
            <a:off x="6697800" y="3870360"/>
            <a:ext cx="12888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24929" descr=""/>
          <p:cNvPicPr/>
          <p:nvPr/>
        </p:nvPicPr>
        <p:blipFill>
          <a:blip r:embed="rId1"/>
          <a:stretch/>
        </p:blipFill>
        <p:spPr>
          <a:xfrm>
            <a:off x="527040" y="1781280"/>
            <a:ext cx="8248680" cy="337176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124930" descr=""/>
          <p:cNvPicPr/>
          <p:nvPr/>
        </p:nvPicPr>
        <p:blipFill>
          <a:blip r:embed="rId2"/>
          <a:stretch/>
        </p:blipFill>
        <p:spPr>
          <a:xfrm>
            <a:off x="814320" y="5021280"/>
            <a:ext cx="8001000" cy="111456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24931" descr=""/>
          <p:cNvPicPr/>
          <p:nvPr/>
        </p:nvPicPr>
        <p:blipFill>
          <a:blip r:embed="rId3"/>
          <a:stretch/>
        </p:blipFill>
        <p:spPr>
          <a:xfrm>
            <a:off x="611280" y="866880"/>
            <a:ext cx="7943760" cy="69516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24932"/>
          <p:cNvSpPr/>
          <p:nvPr/>
        </p:nvSpPr>
        <p:spPr>
          <a:xfrm>
            <a:off x="2900520" y="2435400"/>
            <a:ext cx="129528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24933"/>
          <p:cNvSpPr/>
          <p:nvPr/>
        </p:nvSpPr>
        <p:spPr>
          <a:xfrm>
            <a:off x="2062080" y="3502080"/>
            <a:ext cx="39499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23905" descr=""/>
          <p:cNvPicPr/>
          <p:nvPr/>
        </p:nvPicPr>
        <p:blipFill>
          <a:blip r:embed="rId1"/>
          <a:stretch/>
        </p:blipFill>
        <p:spPr>
          <a:xfrm>
            <a:off x="576360" y="890640"/>
            <a:ext cx="7991280" cy="50767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23906"/>
          <p:cNvSpPr/>
          <p:nvPr/>
        </p:nvSpPr>
        <p:spPr>
          <a:xfrm>
            <a:off x="6735600" y="3959280"/>
            <a:ext cx="648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23907"/>
          <p:cNvSpPr/>
          <p:nvPr/>
        </p:nvSpPr>
        <p:spPr>
          <a:xfrm>
            <a:off x="7383600" y="4987800"/>
            <a:ext cx="11491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23908"/>
          <p:cNvSpPr/>
          <p:nvPr/>
        </p:nvSpPr>
        <p:spPr>
          <a:xfrm>
            <a:off x="969840" y="5521320"/>
            <a:ext cx="52578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22881" descr=""/>
          <p:cNvPicPr/>
          <p:nvPr/>
        </p:nvPicPr>
        <p:blipFill>
          <a:blip r:embed="rId1"/>
          <a:stretch/>
        </p:blipFill>
        <p:spPr>
          <a:xfrm>
            <a:off x="609480" y="1281240"/>
            <a:ext cx="79250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8:40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